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7146-9839-402A-99C5-541BF2DE2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22AD-C889-47FC-B2EC-7EE353C80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D2FF1A6-F220-4464-9E75-EB7B3A25D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A139-1318-48AC-8295-C9ED3B47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8FC-3A6B-4C3F-B71A-9F02BDAE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4D92-A749-4A21-B692-BE0F8F8E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1954-2192-4A7B-927E-A7E9BCA7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FA3F-4881-4AC5-96D1-40FF32AC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A0E-505B-49F1-B195-25674E7C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523-7D7B-43CB-ACB9-6DD91939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6FF4-1814-4963-AC74-13E7A061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707A-6F48-446B-A44B-9D835A8E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E00-FE53-4FE5-B1DF-43FD6B97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438D-B3B0-4817-B8A2-2FBA25F8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DC13-38A6-483D-8C35-498F5AC4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B559-1204-4598-A4DF-853C7ED03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113F-5FAA-46AE-BD49-53FD5AB38FB2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yrami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1371600" y="1523880"/>
            <a:ext cx="6781680" cy="5016600"/>
            <a:chOff x="1371600" y="1523880"/>
            <a:chExt cx="6781680" cy="5016600"/>
          </a:xfrm>
        </p:grpSpPr>
        <p:sp>
          <p:nvSpPr>
            <p:cNvPr id="51" name="AutoShape 4"/>
            <p:cNvSpPr/>
            <p:nvPr/>
          </p:nvSpPr>
          <p:spPr>
            <a:xfrm>
              <a:off x="1371600" y="1523880"/>
              <a:ext cx="6781680" cy="495324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Line 5"/>
            <p:cNvSpPr/>
            <p:nvPr/>
          </p:nvSpPr>
          <p:spPr>
            <a:xfrm>
              <a:off x="2438280" y="495288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Line 6"/>
            <p:cNvSpPr/>
            <p:nvPr/>
          </p:nvSpPr>
          <p:spPr>
            <a:xfrm>
              <a:off x="3429000" y="3429000"/>
              <a:ext cx="2666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Line 7"/>
            <p:cNvSpPr/>
            <p:nvPr/>
          </p:nvSpPr>
          <p:spPr>
            <a:xfrm>
              <a:off x="4800600" y="3429000"/>
              <a:ext cx="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Line 8"/>
            <p:cNvSpPr/>
            <p:nvPr/>
          </p:nvSpPr>
          <p:spPr>
            <a:xfrm>
              <a:off x="3657600" y="4952880"/>
              <a:ext cx="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9"/>
            <p:cNvSpPr/>
            <p:nvPr/>
          </p:nvSpPr>
          <p:spPr>
            <a:xfrm>
              <a:off x="5867280" y="4952880"/>
              <a:ext cx="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 Box 10"/>
            <p:cNvSpPr/>
            <p:nvPr/>
          </p:nvSpPr>
          <p:spPr>
            <a:xfrm>
              <a:off x="4114800" y="30481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00 Poin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 Box 11"/>
            <p:cNvSpPr/>
            <p:nvPr/>
          </p:nvSpPr>
          <p:spPr>
            <a:xfrm>
              <a:off x="6324480" y="61722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 Box 12"/>
            <p:cNvSpPr/>
            <p:nvPr/>
          </p:nvSpPr>
          <p:spPr>
            <a:xfrm>
              <a:off x="5181480" y="45720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00 Poin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Text Box 13"/>
            <p:cNvSpPr/>
            <p:nvPr/>
          </p:nvSpPr>
          <p:spPr>
            <a:xfrm>
              <a:off x="3048120" y="457200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00 Poin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 Box 14"/>
            <p:cNvSpPr/>
            <p:nvPr/>
          </p:nvSpPr>
          <p:spPr>
            <a:xfrm>
              <a:off x="2057400" y="61722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4114800" y="61722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Text Box 17"/>
          <p:cNvSpPr/>
          <p:nvPr/>
        </p:nvSpPr>
        <p:spPr>
          <a:xfrm>
            <a:off x="3276720" y="342900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ractions Equal to 1/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2209680" y="510552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dd Nu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5943600" y="4952880"/>
            <a:ext cx="144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ouble-digit Nu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4114800" y="213372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ime Nu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3962520" y="495288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umbers less than 5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4648320" y="342900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umbers that round to 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458200" cy="63216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762120" y="762120"/>
            <a:ext cx="2971800" cy="1066680"/>
          </a:xfrm>
          <a:prstGeom prst="rect">
            <a:avLst/>
          </a:prstGeom>
          <a:solidFill>
            <a:srgbClr val="0000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81880" cy="62467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609480" y="838080"/>
            <a:ext cx="1752840" cy="1295640"/>
          </a:xfrm>
          <a:prstGeom prst="rect">
            <a:avLst/>
          </a:prstGeom>
          <a:solidFill>
            <a:srgbClr val="0000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2:23:15Z</dcterms:created>
  <dc:creator>Ana Flyod</dc:creator>
  <dc:description/>
  <dc:language>en-US</dc:language>
  <cp:lastModifiedBy>Ana Flyod</cp:lastModifiedBy>
  <dcterms:modified xsi:type="dcterms:W3CDTF">2010-05-04T12:25:26Z</dcterms:modified>
  <cp:revision>1</cp:revision>
  <dc:subject/>
  <dc:title>Pyramid</dc:title>
</cp:coreProperties>
</file>